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9.jpeg" ContentType="image/jpe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dt" idx="3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 type="ftr" idx="3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6"/>
          <p:cNvSpPr>
            <a:spLocks noGrp="1"/>
          </p:cNvSpPr>
          <p:nvPr>
            <p:ph type="sldNum" idx="3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856EEC2-F10B-4322-85EB-3903A11A50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A5E0BB-0DB3-465E-AEAC-47530748EFC1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827E0-B175-4851-ADD3-A022B8809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6F3B1-B233-4BD4-A154-8D0F92264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7BCAEE-29D6-4E86-B1E4-5C70EBA81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EBBBB3-C85A-42EF-B56A-9CBE628BD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7535C5-8E2D-4F66-A11E-96166C44F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D00CE8-218E-438A-9282-59D7461C8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4FD475-3E5F-4BD5-A740-87DD62ABF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005E36-03FF-4A8C-B5C7-B30C54141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DB06B6-2C60-4306-86B5-59DC83C45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BE6065-C1BA-4092-8D59-43581E460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72A6E9-9B55-4268-BA5B-ADE1B8973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81001B-6B73-4F22-A76D-82AF108D1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BC7B4-CB8E-4919-B302-5F4732331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8540D1-4CA6-4EB2-ACAE-F5CDEF686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D52C26-E0C8-46CD-A537-C55D7065A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4FE0DB-4E34-4E4F-B80A-78D1368DA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6E14A3-252C-4A23-B0B1-6EF9617ED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33D85D-5DC5-4BA0-854A-4B7EE1957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129B32-FE7D-4C8C-8628-5D6A2563F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9DDC35-7407-479D-B52F-622F3F067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FF0190-DDAE-4D9A-B5B8-FEA0818A0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7CCD72-BC33-4D5C-8C49-D1ED2B544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929EDF-0CC1-4A94-8D11-9308638D9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F4E03-6E53-4005-8AC2-3B48D3F5F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4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5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7F0595-616D-4C33-944B-81533E8E4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22CF48-8458-49F9-9C9D-E545694EB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391BBC-84C8-4A9E-91B2-36BC04305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0CCF06-5DAB-4EEB-B293-A6479D53F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8B6C4D-C686-4A04-8C46-BA5CE01BE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8428C7-EC55-41E9-95AB-B28249954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447840-5F3A-4B51-B9AC-ADB86A4EC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2D7541-3BC9-4B16-BEAE-2960389BB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537351-A66D-44C2-9263-13B51EDEC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F2AD4B-B138-48B4-8EB4-50B65AA3E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803C4-FB87-4BD7-840C-F242BE860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9DAF13-316A-47FB-AA90-B287A8379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E47837-250E-40E9-AD35-5D05F75D0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9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0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471CCD-907B-4827-94B3-679591A9F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0CE1C-0FC5-42CC-81D6-15C4D8C64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FC36F-7FF9-44FF-BB97-A12865533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6DCF9-7BC0-43A0-9CE0-BCA2FBB5B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57EAD-7503-4097-BCEE-7351E745C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8D0BB-379C-4D6E-9E4B-EC3B44343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FCB1E-A493-47C9-ADD6-42923956E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98F8B-8971-4539-A02A-5DDC7FFD8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CDD9B-8B7D-4BFF-8F8C-1F24E5FFE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871BF-742F-4880-BCDE-61BCFC4E3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F4472-3B04-452F-8D85-AFADF6F40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ACBA7-ADF4-469E-98E3-AE438AF3D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7AB0C-D0D0-48DB-91C8-AA171E208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48A8AF-3563-46E0-AFC4-B77474677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F71F9B-8E78-4407-B570-36148E7FA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BED453-4BB8-47E5-9D45-D846C9D02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F8DCFB-0A56-4C1F-9F2B-66A59EC2A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6348E7-B6CA-493F-BDAF-CED59B3FB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01A87-3076-406F-B057-A8FA973A8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6B150A-C4C8-40E0-862D-D183FD048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BF87D6-35E8-4378-B8A0-BE9F913B0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DB2D22-F88D-4B2F-A420-BA9D1F0DD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E3283B-4965-41ED-B02D-5F6287BD4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23FC7A-E775-4DE5-B279-78E9B5D58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2F3086-F95D-48C0-8BE0-F50C30C86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57F57E-EE70-4A92-86EB-2FFDB7A8A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968032-0ECC-4493-B563-FB627E3CD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E1F048-EF7F-4617-BD02-BEC597EA4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FAC2C3-1879-47B7-A0A1-50A415372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79F6E-D57C-4482-A6CF-64228F4C9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A474F9-81B6-4E25-B976-619C06AF4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4F7702-1076-4E41-9707-7707EBEC2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47B3E3-76A0-4C06-81F7-FFD5C07A7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A1E360-3798-42B6-8372-A5CF6AEAC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F925E8-250B-4B8E-9456-2A7339C3B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723821-3747-4B74-A7C5-F015D8696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C3E237-8EB4-448F-939D-E910F4363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167DFB-CC8E-40EF-9F43-D2ABDD9EF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26C9C0-A61B-49CB-8C9A-F7C7919BB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6C7112-2683-4706-A440-394A84323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BCA6B-15B6-4C00-AB67-C652EC47D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FC1C0A-0521-4174-9E4F-0F2BCFFD5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A9F3F1-E459-4335-A409-64434F535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136164-2754-459A-B774-115E9E893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9E90CA-B6C2-4220-8137-2CA7EA292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F1E770-1316-4E08-BB91-F3D4C9666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297660-F8BA-49AE-A009-2E30D89D9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1D0E68-D5A3-46BC-AC70-68156B845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082BD5-2E2F-4724-ABA0-6E66622C9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882986-6086-423D-A7AF-E457B1EC8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67806A-59BE-4D22-A0C4-7FB01249B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985C9-0B63-424C-ABE6-116C00922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B697EF-CC20-43E2-AF0A-27E154C16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B246CC-3A43-42B6-AD75-6E0B1B188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D886F1-6482-4FAE-AEF7-48CDC3FEF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DE706D-7D54-4CF4-86D4-9136DCE58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AD6A79-DD68-4133-986C-A9D0BEDCB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2D8858-435E-4DEE-AA70-AF7F7DAE1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F5227E-85B2-4687-8B31-9B69C21C1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302349-D326-41BB-9FD5-9A810AA7C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D3BAC8-92EB-4361-80A1-BA6AAE810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CD010D-841B-455F-907A-778AE0274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AF6D4-002B-45C4-8C7A-94C876904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06A89F-93A3-4379-97E5-D24805260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E5ECAE-A386-45B5-ABDD-332C00858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52E8F9-BFE2-4A2E-B7B8-C157C25A8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9C098A-42B3-44A0-995E-0749A35C1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A70490-6697-4A30-987D-4527CF5A9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18DD8A-E3D9-4D69-BEE3-947EA0A29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124A25-2A29-481A-9E09-A6398BB07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988231-CA3D-4322-90ED-9E9C23FC2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BD8146-93B7-4BB9-9369-242014CD0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697432-A74B-4D1F-B5BF-03A0CA64C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32E47-53D4-48CB-9748-7E6398790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AD20BD-A56B-4899-A68B-97AB8BE1A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F40092-F09F-4B79-92B0-D5322D05E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2349DC-9929-4ECE-9DD0-A1123F70A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92B6DF-FB11-4F4C-B095-D85779D43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DDEF51-3CB2-4498-840A-484C547D9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61BB7F-DF3E-4FA3-9549-08657F1BA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6DD8DE-0587-4CDE-9BEC-61ED522AE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69F942-49F7-49DD-9B49-BB39D8904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B8C822-2373-4732-A34B-B887F3220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4F5FDE-F030-4B43-A10F-8C73EB305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13928-053C-4221-8DC4-64820A1D5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17619C-BB1B-47DD-9604-88E14DC29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306300-0F6F-40F7-84D6-238BA1C87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3E6581-0F58-4451-8D29-5D3522393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8218A2-FDB4-41E6-82CC-522B21D29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B04CBC-EF64-40EB-B628-6A4140B82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D5CE94-B248-479C-8776-803023B62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8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593059-628B-4793-9363-857F2572D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AF0227-1DB6-45FB-8019-1A4E13C20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BAAEF6-43ED-4189-B1B5-30274F4FC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734D32-D1E5-4537-9519-109C4192A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2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975F9B-0BA9-4B4A-8D34-780A46F1CF68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12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413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4" name="Straight Connector 32"/>
          <p:cNvSpPr/>
          <p:nvPr/>
        </p:nvSpPr>
        <p:spPr>
          <a:xfrm>
            <a:off x="1442880" y="1847880"/>
            <a:ext cx="657252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dt" idx="28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ftr" idx="29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 type="sldNum" idx="30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5E206A7-8CAF-4EA7-9246-711419EAD785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57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458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9" name="Straight Connector 14"/>
          <p:cNvSpPr/>
          <p:nvPr/>
        </p:nvSpPr>
        <p:spPr>
          <a:xfrm>
            <a:off x="6918480" y="798480"/>
            <a:ext cx="0" cy="466092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 type="dt" idx="31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 type="ftr" idx="32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 type="sldNum" idx="33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37CF8B-DF93-4EB4-B731-630EEE8195C6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5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46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Straight Connector 14"/>
          <p:cNvSpPr/>
          <p:nvPr/>
        </p:nvSpPr>
        <p:spPr>
          <a:xfrm>
            <a:off x="2395440" y="3529080"/>
            <a:ext cx="561996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395080" y="328680"/>
            <a:ext cx="30877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434600" y="798480"/>
            <a:ext cx="80172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D0E6E14-D88B-4C7C-923A-E57CDFEB4419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90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91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Straight Connector 32"/>
          <p:cNvSpPr/>
          <p:nvPr/>
        </p:nvSpPr>
        <p:spPr>
          <a:xfrm>
            <a:off x="1442880" y="1847880"/>
            <a:ext cx="657252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dt" idx="7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ftr" idx="8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sldNum" idx="9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26F196-60A0-46B9-80BC-20B4C745C3F3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35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136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Straight Connector 14"/>
          <p:cNvSpPr/>
          <p:nvPr/>
        </p:nvSpPr>
        <p:spPr>
          <a:xfrm>
            <a:off x="1442880" y="3805200"/>
            <a:ext cx="561816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10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11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sldNum" idx="12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1FDA3C4-DACD-436B-B5DF-94EA17CD5B7D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80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181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2" name="Straight Connector 32"/>
          <p:cNvSpPr/>
          <p:nvPr/>
        </p:nvSpPr>
        <p:spPr>
          <a:xfrm>
            <a:off x="1442880" y="1847880"/>
            <a:ext cx="657252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679820B-9137-404C-938B-0F2085B2FF24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25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226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Straight Connector 35"/>
          <p:cNvSpPr/>
          <p:nvPr/>
        </p:nvSpPr>
        <p:spPr>
          <a:xfrm>
            <a:off x="1442880" y="1847880"/>
            <a:ext cx="657252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dt" idx="16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 type="ftr" idx="17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 type="sldNum" idx="18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03F418-D068-4FA6-A185-39C45AB19AD7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70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271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2" name="Straight Connector 31"/>
          <p:cNvSpPr/>
          <p:nvPr/>
        </p:nvSpPr>
        <p:spPr>
          <a:xfrm>
            <a:off x="1442880" y="1847880"/>
            <a:ext cx="657252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19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ftr" idx="20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sldNum" idx="21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C4037A-8434-48C5-A299-321DF8C887D1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15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316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Straight Connector 16"/>
          <p:cNvSpPr/>
          <p:nvPr/>
        </p:nvSpPr>
        <p:spPr>
          <a:xfrm>
            <a:off x="1441440" y="3205080"/>
            <a:ext cx="242424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 type="dt" idx="22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 type="ftr" idx="23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 type="sldNum" idx="24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E61FFF-E00F-4034-BBD9-74EE57290BE8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60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361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362" name="Group 12"/>
          <p:cNvGrpSpPr/>
          <p:nvPr/>
        </p:nvGrpSpPr>
        <p:grpSpPr>
          <a:xfrm>
            <a:off x="4995720" y="482760"/>
            <a:ext cx="3511800" cy="5148000"/>
            <a:chOff x="4995720" y="482760"/>
            <a:chExt cx="3511800" cy="5148000"/>
          </a:xfrm>
        </p:grpSpPr>
        <p:grpSp>
          <p:nvGrpSpPr>
            <p:cNvPr id="363" name="Rectangle 13"/>
            <p:cNvGrpSpPr/>
            <p:nvPr/>
          </p:nvGrpSpPr>
          <p:grpSpPr>
            <a:xfrm>
              <a:off x="4995720" y="482760"/>
              <a:ext cx="3511800" cy="5148000"/>
              <a:chOff x="4995720" y="482760"/>
              <a:chExt cx="3511800" cy="5148000"/>
            </a:xfrm>
          </p:grpSpPr>
          <p:pic>
            <p:nvPicPr>
              <p:cNvPr id="364" name="Rectangle 13" descr=""/>
              <p:cNvPicPr/>
              <p:nvPr/>
            </p:nvPicPr>
            <p:blipFill>
              <a:blip r:embed="rId4"/>
              <a:stretch/>
            </p:blipFill>
            <p:spPr>
              <a:xfrm>
                <a:off x="4995720" y="482760"/>
                <a:ext cx="3511800" cy="51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5" name=""/>
              <p:cNvSpPr/>
              <p:nvPr/>
            </p:nvSpPr>
            <p:spPr>
              <a:xfrm>
                <a:off x="5084640" y="495000"/>
                <a:ext cx="3310920" cy="4885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  <p:grpSp>
          <p:nvGrpSpPr>
            <p:cNvPr id="366" name="Rectangle 14"/>
            <p:cNvGrpSpPr/>
            <p:nvPr/>
          </p:nvGrpSpPr>
          <p:grpSpPr>
            <a:xfrm>
              <a:off x="5346360" y="771840"/>
              <a:ext cx="2793600" cy="4326840"/>
              <a:chOff x="5346360" y="771840"/>
              <a:chExt cx="2793600" cy="4326840"/>
            </a:xfrm>
          </p:grpSpPr>
          <p:pic>
            <p:nvPicPr>
              <p:cNvPr id="367" name="Rectangle 14" descr=""/>
              <p:cNvPicPr/>
              <p:nvPr/>
            </p:nvPicPr>
            <p:blipFill>
              <a:blip r:embed="rId5"/>
              <a:stretch/>
            </p:blipFill>
            <p:spPr>
              <a:xfrm>
                <a:off x="5346360" y="771840"/>
                <a:ext cx="2793600" cy="4326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8" name=""/>
              <p:cNvSpPr/>
              <p:nvPr/>
            </p:nvSpPr>
            <p:spPr>
              <a:xfrm>
                <a:off x="5382360" y="808200"/>
                <a:ext cx="2718720" cy="4250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</p:grpSp>
      <p:sp>
        <p:nvSpPr>
          <p:cNvPr id="369" name="Straight Connector 30"/>
          <p:cNvSpPr/>
          <p:nvPr/>
        </p:nvSpPr>
        <p:spPr>
          <a:xfrm>
            <a:off x="1441440" y="3143160"/>
            <a:ext cx="324180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dt" idx="25"/>
          </p:nvPr>
        </p:nvSpPr>
        <p:spPr>
          <a:xfrm>
            <a:off x="1436400" y="5470560"/>
            <a:ext cx="325260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ftr" idx="26"/>
          </p:nvPr>
        </p:nvSpPr>
        <p:spPr>
          <a:xfrm>
            <a:off x="1437840" y="318600"/>
            <a:ext cx="32511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sldNum" idx="27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BC10067-DD0C-4795-95DF-5A67DBA535EC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042920" y="692280"/>
            <a:ext cx="3889440" cy="1296720"/>
          </a:xfrm>
          <a:prstGeom prst="rect">
            <a:avLst/>
          </a:prstGeom>
          <a:noFill/>
          <a:ln w="0">
            <a:noFill/>
          </a:ln>
        </p:spPr>
        <p:txBody>
          <a:bodyPr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900" spc="-1" strike="noStrike">
                <a:solidFill>
                  <a:srgbClr val="9973ff"/>
                </a:solidFill>
                <a:latin typeface="Gill Sans MT"/>
              </a:rPr>
              <a:t>ŽSV IZ INFORMATIKE I RAČUNALSTVA ZADARSKE ŽUPANIJE</a:t>
            </a: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subTitle"/>
          </p:nvPr>
        </p:nvSpPr>
        <p:spPr>
          <a:xfrm>
            <a:off x="2773440" y="2420640"/>
            <a:ext cx="3743280" cy="2663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Gill Sans MT"/>
              </a:rPr>
              <a:t>RAD S UČENICIMA S TEŠKOĆAMA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Gill Sans MT"/>
              </a:rPr>
              <a:t>MARTA KLOBUČAR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Gill Sans MT"/>
              </a:rPr>
              <a:t>MAG.PAED.SOC.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10920" y="804600"/>
            <a:ext cx="74041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8" name=""/>
          <p:cNvSpPr txBox="1"/>
          <p:nvPr/>
        </p:nvSpPr>
        <p:spPr>
          <a:xfrm>
            <a:off x="610920" y="1989000"/>
            <a:ext cx="7404120" cy="450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SADRŽAJ EDUKACIJE: Operativni sustav Windows 10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CILJEVI: Učenik prepoznaje i uz pomoć može opisati neke temeljne programe koji su dio operacijskog sustava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AKTIVNOSTI:  uz pomoć nastavnika prilagođava korisničko sučelje operacijskog sustava svojim potrebama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STRATEGIJE PODRŠKE: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usmjeravati njegovu pozornost na nastavne sadržaje, provjeravati ga individualno, osigurati kratkotrajan odmor,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prilagođavanje teksta (uvećanje i pojačanje tiska</a:t>
            </a: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isticanja u tekstu (uokviravanje, podcrtavanje)</a:t>
            </a: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, raščlanjivanje sadržaja na manje cjeline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ZAKLJUČAK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Svaki učenik je poseban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Uspjeh ovisi o puno čimbenika, posebice o odnosu prema školskim obvezama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Djeca s istom teškoćom ne moraju imati iste potrebe u nastavi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Ocjenjuje se trud!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df2f5"/>
            </a:gs>
            <a:gs pos="100000">
              <a:srgbClr val="f2b2c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HVALA NA PAŽNJI!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32" name="Picture 2" descr="tweet picture"/>
          <p:cNvPicPr/>
          <p:nvPr/>
        </p:nvPicPr>
        <p:blipFill>
          <a:blip r:embed="rId1"/>
          <a:stretch/>
        </p:blipFill>
        <p:spPr>
          <a:xfrm>
            <a:off x="1692360" y="2060640"/>
            <a:ext cx="6048360" cy="39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NAJČEŠĆE TEŠKOĆE: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1" name=""/>
          <p:cNvSpPr txBox="1"/>
          <p:nvPr/>
        </p:nvSpPr>
        <p:spPr>
          <a:xfrm>
            <a:off x="0" y="1719000"/>
            <a:ext cx="9059760" cy="51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Teškoće čitanja i pisanja (disleksija i disgrafija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Teškoće pažnje i koncentracij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Intelektualne teškoć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Emocionalne teškoć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12" name="Picture 9" descr="Slikovni rezultat za kids"/>
          <p:cNvPicPr/>
          <p:nvPr/>
        </p:nvPicPr>
        <p:blipFill>
          <a:blip r:embed="rId1"/>
          <a:stretch/>
        </p:blipFill>
        <p:spPr>
          <a:xfrm>
            <a:off x="3203640" y="3068640"/>
            <a:ext cx="5121360" cy="32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ORIJENTACIJSKA LISTA TEŠKOĆA (NN 24/15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14560" indent="-21456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900" spc="-1" strike="noStrike">
                <a:solidFill>
                  <a:srgbClr val="000000"/>
                </a:solidFill>
                <a:latin typeface="Gill Sans MT"/>
              </a:rPr>
              <a:t>Skupine vrsta teškoća su: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214560" indent="-214560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br>
              <a:rPr sz="1900"/>
            </a:br>
            <a:r>
              <a:rPr b="0" lang="hr-HR" sz="1900" spc="-1" strike="noStrike">
                <a:solidFill>
                  <a:srgbClr val="000000"/>
                </a:solidFill>
                <a:latin typeface="Gill Sans MT"/>
              </a:rPr>
              <a:t>1. Oštećenja vida</a:t>
            </a:r>
            <a:br>
              <a:rPr sz="1900"/>
            </a:br>
            <a:r>
              <a:rPr b="0" lang="hr-HR" sz="1900" spc="-1" strike="noStrike">
                <a:solidFill>
                  <a:srgbClr val="000000"/>
                </a:solidFill>
                <a:latin typeface="Gill Sans MT"/>
              </a:rPr>
              <a:t>2. Oštećenja sluha</a:t>
            </a:r>
            <a:br>
              <a:rPr sz="1900"/>
            </a:br>
            <a:r>
              <a:rPr b="0" lang="hr-HR" sz="1900" spc="-1" strike="noStrike">
                <a:solidFill>
                  <a:srgbClr val="000000"/>
                </a:solidFill>
                <a:latin typeface="Gill Sans MT"/>
              </a:rPr>
              <a:t>3. Oštećenja jezično-govorne-glasovne komunikacije i specifične teškoće u učenju</a:t>
            </a:r>
            <a:br>
              <a:rPr sz="1900"/>
            </a:br>
            <a:r>
              <a:rPr b="0" lang="hr-HR" sz="1900" spc="-1" strike="noStrike">
                <a:solidFill>
                  <a:srgbClr val="000000"/>
                </a:solidFill>
                <a:latin typeface="Gill Sans MT"/>
              </a:rPr>
              <a:t>4. Oštećenja organa i organskih sustava</a:t>
            </a:r>
            <a:br>
              <a:rPr sz="1900"/>
            </a:br>
            <a:r>
              <a:rPr b="0" lang="hr-HR" sz="1900" spc="-1" strike="noStrike">
                <a:solidFill>
                  <a:srgbClr val="000000"/>
                </a:solidFill>
                <a:latin typeface="Gill Sans MT"/>
              </a:rPr>
              <a:t>5. Intelektualne teškoće</a:t>
            </a:r>
            <a:br>
              <a:rPr sz="1900"/>
            </a:br>
            <a:r>
              <a:rPr b="0" lang="hr-HR" sz="1900" spc="-1" strike="noStrike">
                <a:solidFill>
                  <a:srgbClr val="000000"/>
                </a:solidFill>
                <a:latin typeface="Gill Sans MT"/>
              </a:rPr>
              <a:t>6. Poremećaji u ponašanju i oštećenja mentalnog zdravlja</a:t>
            </a:r>
            <a:br>
              <a:rPr sz="1900"/>
            </a:br>
            <a:r>
              <a:rPr b="0" lang="hr-HR" sz="1900" spc="-1" strike="noStrike">
                <a:solidFill>
                  <a:srgbClr val="000000"/>
                </a:solidFill>
                <a:latin typeface="Gill Sans MT"/>
              </a:rPr>
              <a:t>7. Postojanje više vrsta teškoća u psihofizičkom razvoju.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UČENICI S TUR SE ŠKOLUJU PO RJEŠENJU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6" name=""/>
          <p:cNvSpPr txBox="1"/>
          <p:nvPr/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hr-HR" sz="1700" spc="-1" strike="noStrike">
                <a:solidFill>
                  <a:srgbClr val="000000"/>
                </a:solidFill>
                <a:latin typeface="Gill Sans MT"/>
              </a:rPr>
              <a:t>Redoviti program uz individualizirane postupke (čl. 5.) 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ili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hr-HR" sz="1700" spc="-1" strike="noStrike">
                <a:solidFill>
                  <a:srgbClr val="000000"/>
                </a:solidFill>
                <a:latin typeface="Gill Sans MT"/>
              </a:rPr>
              <a:t>Redoviti program uz prilagodbu sadržaja i individualizirane postupke (čl. 6.)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(navedeno se odnosi na REDOVITE PROGRAME!)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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Pravilnik o osnovnoškolskom i srednjoškolskom odgoju i obrazovanju učenika s teškoćama u razvoju (NN 24/15)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TEŠKOĆE U UČENJU I INFORMATIKA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Gill Sans MT"/>
              </a:rPr>
              <a:t>Proces (slijed) nastavnog sata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Gill Sans MT"/>
              </a:rPr>
              <a:t>Održavanje pažnje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Gill Sans MT"/>
              </a:rPr>
              <a:t>Posvećenost detaljima (koraci koji se moraju slijediti)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Gill Sans MT"/>
              </a:rPr>
              <a:t>Razumijevanje gradiva (umjesto „štrebanja”)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Gill Sans MT"/>
              </a:rPr>
              <a:t>Učenje koraka napamet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Gill Sans MT"/>
              </a:rPr>
              <a:t>Snalaženje na ekranu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Gill Sans MT"/>
              </a:rPr>
              <a:t>Korištenje opreme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Gill Sans MT"/>
              </a:rPr>
              <a:t>UVIJEK PROVJERAVATI I PO POTREBI VRATITI NA KORAK KOJI NIJE ODRAĐEN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IZRADA IOOP-A: KAKO I ZAŠTO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17080" indent="-21708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IOOP – individualizirani odgojno – obrazovni program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17080" indent="-21708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SPECIFIČAN za potrebe djeteta! 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17080" indent="-21708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ne možemo pretpostaviti da isti odgovara svakom djetetu s teškoćama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17080" indent="-21708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Izrađuje ga nastavnik/učitelj uz pomoć stručnog suradnika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17080" indent="-21708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Nastavnik/učitelj poznaje svoj nastavni predmet, proces učenja i očekivane ishode, a stručni suradnik poznaje potrebe učenika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17080" indent="-21708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Zamišljen kao program koji djetetu omogućuje praćenje nastave s obzirom na svoje potrebe, a nastavniku olakšava pripremu nastave vrednovanje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KAKO PISATI IOOP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2" name=""/>
          <p:cNvSpPr txBox="1"/>
          <p:nvPr/>
        </p:nvSpPr>
        <p:spPr>
          <a:xfrm>
            <a:off x="628560" y="1412640"/>
            <a:ext cx="7886880" cy="476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1400" indent="-2214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hr-HR" sz="1700" spc="-1" strike="noStrike">
                <a:solidFill>
                  <a:srgbClr val="000000"/>
                </a:solidFill>
                <a:latin typeface="Gill Sans MT"/>
              </a:rPr>
              <a:t>SPECIFIČNE METODE RADA: </a:t>
            </a: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nastavnik/učitelj dobije od stručnog suradnika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1400" indent="-2214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hr-HR" sz="1700" spc="-1" strike="noStrike">
                <a:solidFill>
                  <a:srgbClr val="009900"/>
                </a:solidFill>
                <a:latin typeface="Gill Sans MT"/>
              </a:rPr>
              <a:t>npr. omogućiti više vremena za aktivnost, podijeliti zadatke u više manjih cjelina, usmjeravati pažnju, izbjegavati prepisivanje, preferirati usmenu provjeru znanja…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1400" indent="-2214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hr-HR" sz="1700" spc="-1" strike="noStrike">
                <a:solidFill>
                  <a:srgbClr val="000000"/>
                </a:solidFill>
                <a:latin typeface="Gill Sans MT"/>
              </a:rPr>
              <a:t>INICIJALNA PROCJENA</a:t>
            </a: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: Kako nastavnik vidi učenika u odnosu na predmet? 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1400" indent="-2214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ff3300"/>
                </a:solidFill>
                <a:latin typeface="Gill Sans MT"/>
              </a:rPr>
              <a:t> </a:t>
            </a:r>
            <a:r>
              <a:rPr b="0" lang="hr-HR" sz="1700" spc="-1" strike="noStrike">
                <a:solidFill>
                  <a:srgbClr val="ff3300"/>
                </a:solidFill>
                <a:latin typeface="Gill Sans MT"/>
              </a:rPr>
              <a:t>TEMELJITI NA JAKIM STRANAMA!  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1400" indent="-2214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9900"/>
                </a:solidFill>
                <a:latin typeface="Gill Sans MT"/>
              </a:rPr>
              <a:t> </a:t>
            </a:r>
            <a:r>
              <a:rPr b="0" lang="hr-HR" sz="1700" spc="-1" strike="noStrike">
                <a:solidFill>
                  <a:srgbClr val="009900"/>
                </a:solidFill>
                <a:latin typeface="Gill Sans MT"/>
              </a:rPr>
              <a:t>npr.  motiviran je za sve sadržaje, primjenjuje sva naučena pravila, uspješno rješava različite vrste zadataka 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1400" indent="-2214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hr-HR" sz="1700" spc="-1" strike="noStrike">
                <a:solidFill>
                  <a:srgbClr val="000000"/>
                </a:solidFill>
                <a:latin typeface="Gill Sans MT"/>
              </a:rPr>
              <a:t>SADRŽAJ EDUKACIJE: </a:t>
            </a: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tema koja se obrađuje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1400" indent="-2214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hr-HR" sz="1700" spc="-1" strike="noStrike">
                <a:solidFill>
                  <a:srgbClr val="009900"/>
                </a:solidFill>
                <a:latin typeface="Gill Sans MT"/>
              </a:rPr>
              <a:t>npr. rad s ulaznim vrijednostima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1400" indent="-2214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hr-HR" sz="1700" spc="-1" strike="noStrike">
                <a:solidFill>
                  <a:srgbClr val="000000"/>
                </a:solidFill>
                <a:latin typeface="Gill Sans MT"/>
              </a:rPr>
              <a:t>CILJEVI: </a:t>
            </a: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koja znanja će usvojiti 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1400" indent="-2214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9900"/>
                </a:solidFill>
                <a:latin typeface="Gill Sans MT"/>
              </a:rPr>
              <a:t>npr. samostalno ili uz pomoć učitelja/učiteljice rješavati jednostavne probleme koji se koriste ulaznim i izlaznim vrijednostima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hr-HR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539640" y="692280"/>
            <a:ext cx="835344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Gill Sans MT"/>
              </a:rPr>
              <a:t>AKTIVNOSTI ZA UČENIKA/UČENICU: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9900"/>
                </a:solidFill>
                <a:latin typeface="Gill Sans MT"/>
              </a:rPr>
              <a:t> </a:t>
            </a:r>
            <a:r>
              <a:rPr b="0" lang="hr-HR" sz="2000" spc="-1" strike="noStrike">
                <a:solidFill>
                  <a:srgbClr val="009900"/>
                </a:solidFill>
                <a:latin typeface="Gill Sans MT"/>
              </a:rPr>
              <a:t>npr. učenik uz pomoć slaže jednostavan program služeći se naredbama ulaza, pridruživanja i izlaza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Gill Sans MT"/>
              </a:rPr>
              <a:t>STRATEGIJE PODRŠKE </a:t>
            </a: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(prilagodba metoda, sredstava, oblika, postupaka, zahtjeva): koje metode će nastavnik primijeniti kako bi obradio temu u skladu sa specifičnim potrebama tog učenika/c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npr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9900"/>
                </a:solidFill>
                <a:latin typeface="Gill Sans MT"/>
              </a:rPr>
              <a:t> </a:t>
            </a:r>
            <a:r>
              <a:rPr b="0" lang="hr-HR" sz="2000" spc="-1" strike="noStrike">
                <a:solidFill>
                  <a:srgbClr val="009900"/>
                </a:solidFill>
                <a:latin typeface="Gill Sans MT"/>
              </a:rPr>
              <a:t>osigurati kratkotrajan odmor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99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9900"/>
                </a:solidFill>
                <a:latin typeface="Gill Sans MT"/>
              </a:rPr>
              <a:t>prilagođavanje teksta (uvećanje i pojačanje tiska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99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9900"/>
                </a:solidFill>
                <a:latin typeface="Gill Sans MT"/>
              </a:rPr>
              <a:t>isticanja u tekstu (uokviravanje, podcrtavanje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9900"/>
                </a:solidFill>
                <a:latin typeface="Gill Sans MT"/>
              </a:rPr>
              <a:t> </a:t>
            </a:r>
            <a:r>
              <a:rPr b="0" lang="hr-HR" sz="2000" spc="-1" strike="noStrike">
                <a:solidFill>
                  <a:srgbClr val="009900"/>
                </a:solidFill>
                <a:latin typeface="Gill Sans MT"/>
              </a:rPr>
              <a:t>raščlanjivanje sadržaja na manje cjelin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PRIMJER ZA IOOP (5.R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1442520" y="1413000"/>
            <a:ext cx="701676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26080" indent="-22608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Opis teškoća: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6080" indent="-22608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Učenikove teškoće proizlaze iz potreba povezanih sa specifičnim teškoćama čitanja i pisanja te teško održivom pažnjom i koncentracijom.  Učenik ima pozitivan odnos prema šk. obvezama. Pamti slikovite primjere, usporedbe, slike itd.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6080" indent="-22608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Specifične metode rada: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6080" indent="-22608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Učeniku je potrebno individualno pristupiti. Jasno mu dati do znanja što se očekuje i provjeriti razumije li. Izbjegavati čitanje nepoznatog teksta. Prepisivanje svesti na minimum. Potrebno mu je češće usmjeravati pažnju na zadanu aktivnost. Omogućiti više vremena za zadatak. Složene zadatke potrebno je podijeliti u više manjih. Omogućiti mu kratke predahe više puta tijekom nastave. Poticati ga pohvalom i istaknuti ga u aktivnostima u kojima je uspješan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3T16:58:23Z</dcterms:created>
  <dc:creator>dsp</dc:creator>
  <dc:description/>
  <dc:language>en-US</dc:language>
  <cp:lastModifiedBy>Marta Klobučar</cp:lastModifiedBy>
  <dcterms:modified xsi:type="dcterms:W3CDTF">2019-12-16T11:14:00Z</dcterms:modified>
  <cp:revision>7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